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4B7-AEB9-475B-B351-9156659E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066-2F1F-4F9C-AB63-F2FB6A37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DBD-E3D6-4DCF-9455-739040E5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ABA-0B10-4EDC-B412-D9C068B3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402-2E8A-487E-9FC1-AA1E16E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3C1-383A-41E2-9E06-010822E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49B-BA0D-4A79-BEFB-984E94F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D7E-E9EC-4282-AD6F-315EF7B8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635-F82C-42A7-B771-037AC5D3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A90-5B1D-45B6-897A-3A5F73E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3E0-ADAC-4402-99AF-7ED7EE5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419-1E25-44B8-9AB9-EECB2F0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E11-F3B8-49E7-92AE-F198C87DD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29000" y="27432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7432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65428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1838160" cy="141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179388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7432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14444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2743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478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743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3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12436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61324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053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181908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74320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13004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beth_ware</cp:lastModifiedBy>
  <dcterms:modified xsi:type="dcterms:W3CDTF">2007-11-27T22:25:30Z</dcterms:modified>
  <cp:revision>6</cp:revision>
  <dc:subject/>
  <dc:title>-ill Word Family</dc:title>
</cp:coreProperties>
</file>